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11.png" ContentType="image/png"/>
  <Override PartName="/ppt/media/image12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257480" y="720360"/>
            <a:ext cx="4798800" cy="359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6840" rIns="96840" tIns="48240" bIns="4824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4000" cy="43182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4145040" y="9121680"/>
            <a:ext cx="3168720" cy="4780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072AF13-A5C0-45EE-B16B-1D6B655F950F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17E0D99-3A8B-4510-B487-7DC30212734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6C9308C-78A2-4E8E-97D1-12A51596D36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343B3A2-6B6D-488D-B45D-371A06A727B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427FD82-83C9-4CAF-8938-78AA2652738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C8B3EFE-FD36-4A56-B68F-F0511117384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FD266DA-66FB-4C1A-A512-E3C5AED3E80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AB63781-1145-4D9D-A579-1C624DC0276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F4DBD56-7854-4CA4-BE34-80D04CE96EC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F7184BA-4B74-43C6-8260-7A0CF72C661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DC46E14-8A22-42B4-956B-6CC18B37F92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A70B1AC-2FD1-4214-AD76-4AAF0DBF914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E72DE1A-D720-4C1E-A6A9-88492B0510A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CDA85D6-0C25-4EA9-9C3F-E293374D0B5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0E0BF01-E7EC-4BFF-A35E-AEC85E3B60F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E55108-795C-4FE8-8B42-55A2C0FC05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56FBB0-A840-40FF-99E0-5313CAA404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CE65A6-57A9-46D5-8384-0DABFBAD58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44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072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44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072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84A8FE-3826-476E-BEAE-1E12B98DF28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095D65-8C78-4E6A-95B3-BA0B81D85FA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9652B7-242A-4CBD-8426-85941EFC5D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4D7200-078D-4E8E-91B3-3D7EA1D361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6888EC-8F42-4576-BC51-43C71BC142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09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E3BADD-4214-46D2-A96C-5DD6E54B04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477E55-5BE1-4FB9-9EFE-EE129C68F4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E9E95A-00E1-4E00-ADF5-B976275692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206475-D59B-4C46-B3E8-23CC3D213B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3680" indent="-2811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6248520"/>
            <a:ext cx="190512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8520"/>
            <a:ext cx="289584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5F383D8-6A41-4150-9738-9D63CB27835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143000" y="380880"/>
            <a:ext cx="2590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pperplate Gothic Bold"/>
              </a:rPr>
              <a:t>PBL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86200" y="5029200"/>
            <a:ext cx="3733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pperplate Gothic Bold"/>
              </a:rPr>
              <a:t>for the 2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pperplate Gothic Bold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Copperplate Gothic Bold"/>
              </a:rPr>
              <a:t> centu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219320" y="1066680"/>
            <a:ext cx="5715000" cy="3800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8600" y="457200"/>
            <a:ext cx="746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pperplate Gothic Bold"/>
              </a:rPr>
              <a:t>Managing a project: 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914400"/>
            <a:ext cx="6477120" cy="76320"/>
          </a:xfrm>
          <a:prstGeom prst="rect">
            <a:avLst/>
          </a:prstGeom>
          <a:solidFill>
            <a:srgbClr val="9918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914400" y="1174680"/>
            <a:ext cx="7162920" cy="332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void death-by-repetitive-presentation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aried answers to DQ or solutions to 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fferentiate point of view / ro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ame DQ but use varied texts, places, times, people,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ultures,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hoice of products / ways to present answer to D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6885000" y="380880"/>
            <a:ext cx="1935000" cy="198144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228600" y="457200"/>
            <a:ext cx="746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pperplate Gothic Bold"/>
              </a:rPr>
              <a:t>Sample Project Pl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914400"/>
            <a:ext cx="6477120" cy="76320"/>
          </a:xfrm>
          <a:prstGeom prst="rect">
            <a:avLst/>
          </a:prstGeom>
          <a:solidFill>
            <a:srgbClr val="9918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174680"/>
            <a:ext cx="7162920" cy="29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eaching and Learning Gu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oject Calend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6980400" y="228600"/>
            <a:ext cx="1935000" cy="198108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3467160" y="457200"/>
            <a:ext cx="5676840" cy="57150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5562720" y="1066680"/>
            <a:ext cx="1218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Getting Sta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543800" y="266688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Planning &amp; Prepa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943600" y="502920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d6decf"/>
                </a:solidFill>
                <a:latin typeface="Calibri"/>
              </a:rPr>
              <a:t>Man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809880" y="3200400"/>
            <a:ext cx="1524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Reflect &amp; Per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" y="380880"/>
            <a:ext cx="6705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pperplate Gothic Bold"/>
              </a:rPr>
              <a:t>Reflect and Per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762120"/>
            <a:ext cx="3048120" cy="75960"/>
          </a:xfrm>
          <a:prstGeom prst="rect">
            <a:avLst/>
          </a:prstGeom>
          <a:solidFill>
            <a:srgbClr val="8a15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52280" y="1676520"/>
            <a:ext cx="3657600" cy="4038480"/>
          </a:xfrm>
          <a:prstGeom prst="foldedCorner">
            <a:avLst>
              <a:gd name="adj" fmla="val 12500"/>
            </a:avLst>
          </a:prstGeom>
          <a:solidFill>
            <a:srgbClr val="b9d7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52280" y="1828800"/>
            <a:ext cx="3657600" cy="327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alibri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elebrate succ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alibri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Facilitate student self-  reflection and self-assess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alibri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ather feedback on project design and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alibri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Use data to remediate and to improve your proje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alibri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llect examples of student 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rchive your proje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6435720" y="380880"/>
            <a:ext cx="2413080" cy="26672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28600" y="304920"/>
            <a:ext cx="4800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pperplate Gothic Bold"/>
              </a:rPr>
              <a:t>Reflect and Per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762120"/>
            <a:ext cx="3962520" cy="75960"/>
          </a:xfrm>
          <a:prstGeom prst="rect">
            <a:avLst/>
          </a:prstGeom>
          <a:solidFill>
            <a:srgbClr val="9918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990720" y="1219320"/>
            <a:ext cx="6019560" cy="38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Self and Peer Assessmen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t expectations for honesty (improves ov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ime in a culture of PBL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k for evid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verage scores on collaboration rub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et students divide points for their gro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eacher has last wo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228600" y="533520"/>
            <a:ext cx="4876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pperplate Gothic Bold"/>
              </a:rPr>
              <a:t>Reflect and Per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0" y="761040"/>
            <a:ext cx="3962520" cy="75960"/>
          </a:xfrm>
          <a:prstGeom prst="rect">
            <a:avLst/>
          </a:prstGeom>
          <a:solidFill>
            <a:srgbClr val="8a15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 rot="10800000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62120" y="914400"/>
            <a:ext cx="7315200" cy="48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The How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hole group, focus group, small group, individu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scussion, survey, jour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he Wha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ntent: what was learned (correct misunderstandings)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hat it mea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ocess: how we learned and worked; skills w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 Project: the good, the bad, and the ug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here do we go from here? (future projects, skills t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k on, connections to the course / next unit)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6851520" y="228600"/>
            <a:ext cx="1920960" cy="2362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8381880" y="1219320"/>
            <a:ext cx="609840" cy="380880"/>
          </a:xfrm>
          <a:prstGeom prst="rect">
            <a:avLst/>
          </a:prstGeom>
          <a:solidFill>
            <a:srgbClr val="ced0c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381880" y="2057400"/>
            <a:ext cx="609840" cy="380880"/>
          </a:xfrm>
          <a:prstGeom prst="rect">
            <a:avLst/>
          </a:prstGeom>
          <a:solidFill>
            <a:srgbClr val="ced0c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381880" y="3505320"/>
            <a:ext cx="609840" cy="380880"/>
          </a:xfrm>
          <a:prstGeom prst="rect">
            <a:avLst/>
          </a:prstGeom>
          <a:solidFill>
            <a:srgbClr val="ced0c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381880" y="4876920"/>
            <a:ext cx="609840" cy="380880"/>
          </a:xfrm>
          <a:prstGeom prst="rect">
            <a:avLst/>
          </a:prstGeom>
          <a:solidFill>
            <a:srgbClr val="ced0c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28600" y="228600"/>
            <a:ext cx="8763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pperplate Gothic Bold"/>
              </a:rPr>
              <a:t>critical – in a friendly 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838080"/>
            <a:ext cx="4952880" cy="76320"/>
          </a:xfrm>
          <a:prstGeom prst="rect">
            <a:avLst/>
          </a:prstGeom>
          <a:solidFill>
            <a:srgbClr val="9918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981080" y="1219320"/>
            <a:ext cx="68580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057400" y="1143000"/>
            <a:ext cx="6248520" cy="48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eport: Group provides project overview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riving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Question, major student products, Entry Event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larifying: Audience asks short, clarifying questio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Good stuff (aprx. 4 minutes): Audience shares wha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hey liked about project. Sentence stub = “I Like …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Wondering stuff (aprx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4 minutes): Audiences shares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heir concerns and unanswered questions.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Sentence stub = “I wonder if…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ext stuff (aprx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4 minutes): Audience shares thei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houghts on resources and improvement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eflection: Audience and group talk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447920" y="2666880"/>
            <a:ext cx="685800" cy="1981440"/>
          </a:xfrm>
          <a:custGeom>
            <a:avLst/>
            <a:gdLst>
              <a:gd name="textAreaLeft" fmla="*/ 438120 w 685800"/>
              <a:gd name="textAreaRight" fmla="*/ 686160 w 685800"/>
              <a:gd name="textAreaTop" fmla="*/ 51480 h 1981440"/>
              <a:gd name="textAreaBottom" fmla="*/ 1929960 h 1981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28600" y="34290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udi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04920" y="48769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very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80880" y="12193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0880" y="198108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very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8458200" y="12193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458200" y="20574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8381880" y="34290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8458200" y="48769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3505320" y="990720"/>
            <a:ext cx="2935080" cy="52959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228600" y="380880"/>
            <a:ext cx="556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pperplate Gothic Bold"/>
              </a:rPr>
              <a:t>Begin with the end in mi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838080"/>
            <a:ext cx="4191120" cy="76320"/>
          </a:xfrm>
          <a:prstGeom prst="rect">
            <a:avLst/>
          </a:prstGeom>
          <a:solidFill>
            <a:srgbClr val="9918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28600" y="1066680"/>
            <a:ext cx="42670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nowledge of science, history,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terature, languag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ime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rong work eth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spectful &amp; Car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ganiz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ading/writing/math skil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410080" y="762120"/>
            <a:ext cx="342900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itical thinker/problem-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reciates divers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lobal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chnology literac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munication skil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bb88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orks independently and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llaborative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ealthy lifesty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09360" y="4648320"/>
            <a:ext cx="129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sponsi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3390840" y="76320"/>
            <a:ext cx="5676840" cy="5715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5562720" y="685800"/>
            <a:ext cx="1218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Getting Sta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467480" y="2362320"/>
            <a:ext cx="1524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Planning &amp; Prepa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829480" y="4495680"/>
            <a:ext cx="163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Manag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9880" y="2759040"/>
            <a:ext cx="1371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d6decf"/>
                </a:solidFill>
                <a:latin typeface="Calibri"/>
              </a:rPr>
              <a:t>Reflect Perf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27640" y="304812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d6decf"/>
                </a:solidFill>
                <a:latin typeface="Times New Roman"/>
              </a:rPr>
              <a:t>&am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28600" y="380880"/>
            <a:ext cx="6705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pperplate Gothic Bold"/>
              </a:rPr>
              <a:t>Managing a pro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0" y="762120"/>
            <a:ext cx="3124080" cy="75960"/>
          </a:xfrm>
          <a:prstGeom prst="rect">
            <a:avLst/>
          </a:prstGeom>
          <a:solidFill>
            <a:srgbClr val="8a15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28600" y="3124080"/>
            <a:ext cx="5638680" cy="3048120"/>
          </a:xfrm>
          <a:prstGeom prst="foldedCorner">
            <a:avLst>
              <a:gd name="adj" fmla="val 12500"/>
            </a:avLst>
          </a:prstGeom>
          <a:solidFill>
            <a:srgbClr val="b9d7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28600" y="3200400"/>
            <a:ext cx="5867280" cy="27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alibri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Building a culture of inquiry &amp; independ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alibri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Beginning the inquiry proces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alibri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Managing group collab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alibri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Keeping track of student 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alibri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oaching the inquiry pro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alibri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Facilitating presentations to an audi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7086600" y="152280"/>
            <a:ext cx="1828800" cy="190512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assroom culture in P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040" y="1731600"/>
            <a:ext cx="6629400" cy="50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Form a team of five. Determine who will reflect about the following in the video from Aviation High School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Times New Roman"/>
              </a:rPr>
              <a:t>Strategie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that promote a culture of inquiry and independence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Team ro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Team form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Team agreeme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Role of exper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Student reflection on progress in meeting learning goal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685800"/>
            <a:ext cx="4343400" cy="76320"/>
          </a:xfrm>
          <a:prstGeom prst="rect">
            <a:avLst/>
          </a:prstGeom>
          <a:solidFill>
            <a:srgbClr val="8a15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8600" y="22860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pperplate Gothic Bold"/>
              </a:rPr>
              <a:t>Managing a project: Day 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685800"/>
            <a:ext cx="5334120" cy="76320"/>
          </a:xfrm>
          <a:prstGeom prst="rect">
            <a:avLst/>
          </a:prstGeom>
          <a:solidFill>
            <a:srgbClr val="9918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1281240"/>
            <a:ext cx="71625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aunch with Entry Ev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reate need-to-know list or set of questions for inqui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nnounce groups/presentation schedu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991827"/>
                </a:solidFill>
                <a:uFillTx/>
                <a:latin typeface="Times New Roman"/>
              </a:rPr>
              <a:t>Students begin to…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old initial group meet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rite group contra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rite preliminary task lis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mplete individual activity lo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egin Research, reading, or other content-related 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7607160" y="304920"/>
            <a:ext cx="1317600" cy="144756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5943600" y="228600"/>
            <a:ext cx="2895480" cy="155088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0" y="304920"/>
            <a:ext cx="4800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pperplate Gothic Bold"/>
              </a:rPr>
              <a:t>The project pack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0" y="762120"/>
            <a:ext cx="2971800" cy="75960"/>
          </a:xfrm>
          <a:prstGeom prst="rect">
            <a:avLst/>
          </a:prstGeom>
          <a:solidFill>
            <a:srgbClr val="9918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1066680"/>
            <a:ext cx="6934320" cy="28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Things to inclu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oject Calend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ubrics and Assess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esource li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esentation/exhibition schedu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Groups/teams ros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hecklist (due dates and points possible)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emplates for contracts, task list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676520" y="3429000"/>
            <a:ext cx="693396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What to do with the pack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ke 1 copy per stud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lace packets in clearly marked project cen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oint out their location after the Need to Know activ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efer all logistical questions (stuff in the packet) to the project cen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Note: If project material is stored online, simply advise students where to find 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52280" y="380880"/>
            <a:ext cx="693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pperplate Gothic Bold"/>
              </a:rPr>
              <a:t>Managing a project: Check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0" y="837720"/>
            <a:ext cx="6019920" cy="76320"/>
          </a:xfrm>
          <a:prstGeom prst="rect">
            <a:avLst/>
          </a:prstGeom>
          <a:solidFill>
            <a:srgbClr val="9918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 rot="10800000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295280" y="914400"/>
            <a:ext cx="7162920" cy="47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or produc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ough drafts, concept maps, models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oryboards, plans, proposals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search notes, practice present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asses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, don’t grade)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pportunities for teacher and peer feedb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or proces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ists of questions for inqui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journals / logs of time &amp; ta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source lis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k groups to report /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eet with group lead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6172200" y="609480"/>
            <a:ext cx="2895480" cy="169560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5105520" y="3657600"/>
            <a:ext cx="3809880" cy="285768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228600" y="380880"/>
            <a:ext cx="6781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pperplate Gothic Bold"/>
              </a:rPr>
              <a:t>Managing a project: Group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838080"/>
            <a:ext cx="6019920" cy="76320"/>
          </a:xfrm>
          <a:prstGeom prst="rect">
            <a:avLst/>
          </a:prstGeom>
          <a:solidFill>
            <a:srgbClr val="9918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523880" y="1295280"/>
            <a:ext cx="6934320" cy="39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lear criteria: collaboration rubric, contracts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t of expectations / nor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actice skills before and during projec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onitoring style: helicopter vs. predator dr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it with each group occasional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rts from groups / leade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iring and fi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ntry and exit pla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228600" y="457200"/>
            <a:ext cx="7238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pperplate Gothic Bold"/>
              </a:rPr>
              <a:t>Managing a project: 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914400"/>
            <a:ext cx="6477120" cy="76320"/>
          </a:xfrm>
          <a:prstGeom prst="rect">
            <a:avLst/>
          </a:prstGeom>
          <a:solidFill>
            <a:srgbClr val="9918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09480" y="1676520"/>
            <a:ext cx="7162920" cy="35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rrange schedule, logistics in adv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vite audience, plan their role, provide inform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k questions to assess content and pro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dividual accountability in group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quire shared presentation du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question each individual (about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any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art of presentation)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lay hardball: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any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student may be asked to do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any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art of 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llect reports on who did what work to prep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6885000" y="380880"/>
            <a:ext cx="1935000" cy="198144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ka Bauer</dc:creator>
  <dc:description/>
  <dc:language>en-US</dc:language>
  <cp:lastModifiedBy>ADMIN</cp:lastModifiedBy>
  <dcterms:modified xsi:type="dcterms:W3CDTF">2010-02-04T12:36:22Z</dcterms:modified>
  <cp:revision>1</cp:revision>
  <dc:subject/>
  <dc:title>PowerPoint Presentation  -  Title Here</dc:title>
</cp:coreProperties>
</file>